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jpeg" ContentType="image/jpeg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31.png" ContentType="image/png"/>
  <Override PartName="/ppt/media/image30.png" ContentType="image/png"/>
  <Override PartName="/ppt/media/image35.jpeg" ContentType="image/jpeg"/>
  <Override PartName="/ppt/media/image28.png" ContentType="image/png"/>
  <Override PartName="/ppt/media/image8.jpeg" ContentType="image/jpeg"/>
  <Override PartName="/ppt/media/image38.png" ContentType="image/png"/>
  <Override PartName="/ppt/media/image14.png" ContentType="image/png"/>
  <Override PartName="/ppt/media/image9.wmf" ContentType="image/x-wmf"/>
  <Override PartName="/ppt/media/image42.jpeg" ContentType="image/jpeg"/>
  <Override PartName="/ppt/media/image33.jpeg" ContentType="image/jpeg"/>
  <Override PartName="/ppt/media/image39.png" ContentType="image/png"/>
  <Override PartName="/ppt/media/image40.jpeg" ContentType="image/jpeg"/>
  <Override PartName="/ppt/media/image44.jpeg" ContentType="image/jpeg"/>
  <Override PartName="/ppt/media/image12.wmf" ContentType="image/x-wmf"/>
  <Override PartName="/ppt/media/image13.png" ContentType="image/png"/>
  <Override PartName="/ppt/media/image5.png" ContentType="image/png"/>
  <Override PartName="/ppt/media/image43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5.wmf" ContentType="image/x-wmf"/>
  <Override PartName="/ppt/media/image41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4FAA-40F6-4DF1-B115-059838A80AA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AA80-27AE-4897-AF07-21AC652D0E0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A150-02AE-47AD-9A4B-DC2627D73FA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5D83-4CF2-4922-90BD-B3F6735D3C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5F91-FB08-41E6-A39D-78D0C779AF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FB58-A24B-4A68-B550-57346EDE0BA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1937-3F8E-4421-B199-EC7C51885D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8599-D1BD-41B5-8328-762C0A556F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696A-BE15-4BD1-A8A8-152658D406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5BBB-FF3E-4AAB-AC0B-F21D8CA1EE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FFB0-70B3-4B5E-BB0A-C3AE890EDA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A0C2-2B25-4ABE-9097-AC8A0ACE4D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B4ED-7452-418C-8C4B-B08FB35147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A164-B5BB-4C99-9DCF-B574AF2A02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5DFF-B3AD-40CD-8AAF-ECB009B555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D037-FCA3-4B4A-B401-938B04A63A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هدف اصل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health</a:t>
            </a: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 پیشگیری اولیه و ثانویه است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1A00-B42B-4B64-AA0D-7FF8205E484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DF8E-6F5A-47A3-85B4-6B41804F05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7A0D-0686-40A7-A6F2-DC7DAF2363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AB18-5B2B-438D-B89A-08157539B0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4D76-86CD-4885-8DEC-38EC68C2E3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E8F7-2EF4-4250-BE36-8132CEB99A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611C-5D1F-4444-821B-E8A05B7E5A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BED6-7DD9-470B-9064-339B5E38B6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DE0C-5C41-4BBA-A98F-C3B56E3F3C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45E5-90C4-47AB-99CC-432A3E46AF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CF43-EF4D-41E3-A1BE-857F10C424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97C0-E812-4186-8CDF-66EAFE7A3C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0D35-7154-4667-A5A2-EBACCA555F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8DC0-610E-4C0C-BD22-CC351BEF5D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01EC-FA7F-4A9A-B78B-3A9E127305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64D8-23B4-46B7-9830-6420BD3A59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99C1-E130-42B6-A130-E9C5F6888E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1940-4191-4980-BFB2-14B4399BFE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2555-7C24-44E5-81EF-9926502F0CF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3/2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0CB0-747F-4F1F-AF92-F1393EF6D31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9EA1-53F5-40E8-96E0-0765EF1E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C3FA-0326-49AD-94D8-52E515F9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7DE4-4175-423A-BC84-06FD1E6C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5C1-ED21-4FE4-AC4E-FEF03479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ACE0-FBE4-40C5-9E71-CF2B9856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1445-63AE-4C91-82C4-6185B3F1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403F-C011-4108-B8B3-6D879534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312E-DC0E-4105-B697-9C6E04D3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0D73-79EA-44A4-8FCC-FAE1DFF3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BEDE-8AA6-4814-AFBF-C64001E7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532B-7AE9-4050-B7F3-2240F0A2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E500-FA03-40B1-BC1A-02A436C1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CC94-7BF7-4CE5-BC2A-60F7A88F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F51A-7E93-4000-84A2-401A6FA2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49D9-0395-4BDF-A896-0D362486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0AEE-F84F-4FBA-8B0E-AB9633EC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F4AA-E96C-46DD-8875-3373852D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B70E2-6A16-4EA3-B417-7E44C6E8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B3065-2F42-44BC-AFDC-4D042708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533AD-F712-45B1-9978-A69440AC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CFAA2-08A4-4114-9640-BAFB0750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30AC8-A0DE-48CE-BF4F-86117DF3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7F04-BAF6-44CC-9E25-30D5FE95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843BD-4F1C-4A46-AB8D-B86F7EF4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C5521-A785-4E81-BA8D-081522E3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03822-CBF1-42AE-A071-37F9EAA7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D618B-DC62-4A79-B126-4DEA5898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7CC6D-64F2-45EE-A07C-BAA879C3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CFE4C-407B-4990-B26D-84BB104C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668C7-7C1B-4F7B-8DF6-BFBB7EB6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700F9-306B-4749-9E9C-B5D44027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8A3C2-9E93-4C09-8A52-B1AB3968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2E2F9-ACB5-446A-B929-55BEA03D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B91F-973F-4AD7-B14F-BE0F6301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A35D2-5E08-45FC-85A0-112EF30E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9013B-2969-44B9-87E7-1D233E9E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DEDCD-8144-4AD2-8A68-3E73B240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B560E-1AF5-4A6E-A98B-2BA9DF72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EC63F-8892-492D-B157-615E8C31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2635E-4BB5-45FF-9570-7211CEF5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EFC7B-7980-4623-B868-28983D0E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7A634-B9B4-4F20-883B-7F20BD9B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E31C4-BBBC-432E-8747-8B1D9108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F0E8-C3D2-4FE6-B56F-BD4EDE67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63AA-F0FF-4570-8428-7786235B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27E0-5E54-461C-A8C3-877F069B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9C9D-0CF7-4731-A38D-77ADDE3D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445A-1038-4396-B377-F0A07D17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EA80-4273-424A-BB68-E2C6AEA8BAB3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BBEB-E0D0-4794-91C2-FCA2CBA967E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C479-3B07-483E-85C1-271D677AB4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4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1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5E3B-5E6E-4F3A-8BC1-9D581CED52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5.wmf"/><Relationship Id="rId5" Type="http://schemas.openxmlformats.org/officeDocument/2006/relationships/image" Target="../media/image26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slide28.xml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28.xml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" Target="slide28.xml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hyperlink" Target="http://images.google.com/imgres?imgurl=http://img.slate.com/media/1/123125/122981/2111757/2118667/02_Custom-Plugs_tn.jpg&amp;imgrefurl=http://www.slate.com/id/2118800/&amp;h=150&amp;w=205&amp;sz=6&amp;hl=en&amp;start=3&amp;tbnid=O3tLQE_O3zbjwM:&amp;tbnh=77&amp;tbnw=105&amp;prev=/images%3Fq%3D%2522ear%2Bplug%2522%26svnum%3D10%26hl%3Den%26lr%3D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ffice365.co.uk/im/pim/134049.jpg&amp;imgrefurl=http://www.office365.co.uk/Safety-Security/134049-3M-Premium-Ear.htm&amp;h=300&amp;w=250&amp;sz=22&amp;hl=en&amp;start=60&amp;tbnid=bWAGtQ4YuJreVM:&amp;tbnh=116&amp;tbnw=97&amp;prev=/images%3Fq%3D%2522ear%2Bmuff%2522%26start%3D40%26ndsp%3D20%26svnum%3D10%26hl%3Den%26lr%3D%26sa%3DN" TargetMode="External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4952880" cy="3048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AB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B Nazanin"/>
              </a:rPr>
              <a:t>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WordArt 4"/>
          <p:cNvSpPr txBox="1"/>
          <p:nvPr/>
        </p:nvSpPr>
        <p:spPr>
          <a:xfrm>
            <a:off x="2057400" y="685800"/>
            <a:ext cx="518148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PINAL RADIOGRAM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Picture 5" descr="014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معاینات دوره ا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457200" y="2131920"/>
            <a:ext cx="82296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turn to Work Examination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(RTW Exam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7960" y="2361960"/>
            <a:ext cx="82296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bsence for a serious ill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Physical capac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job de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it examin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tructures of exit examination is the same as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periodic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xit examination should be based on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target organ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or substances specif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lassification of Sick Employe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Occupational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-related disea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induc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aggravat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inge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Workplace-Disease Intera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838080" y="2362320"/>
            <a:ext cx="274320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6095880" y="2362320"/>
            <a:ext cx="2667240" cy="11286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Occupational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6"/>
          <p:cNvSpPr/>
          <p:nvPr/>
        </p:nvSpPr>
        <p:spPr>
          <a:xfrm>
            <a:off x="6086520" y="41148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Various Pre-exi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non-occupational dis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914400" y="41148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8"/>
          <p:cNvSpPr/>
          <p:nvPr/>
        </p:nvSpPr>
        <p:spPr>
          <a:xfrm>
            <a:off x="3581280" y="28954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3581280" y="47242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4129200" y="2362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ind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3962520" y="4195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aggra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y diagnosis of occupational disease is importa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250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and effective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workplace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coworkers ( disease clus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o-legal a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potential course of a disease &amp; the opportunities for</a:t>
            </a:r>
            <a:br>
              <a:rPr sz="2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1"/>
          <p:cNvSpPr/>
          <p:nvPr/>
        </p:nvSpPr>
        <p:spPr>
          <a:xfrm>
            <a:off x="250920" y="4076640"/>
            <a:ext cx="165708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2"/>
          <p:cNvSpPr/>
          <p:nvPr/>
        </p:nvSpPr>
        <p:spPr>
          <a:xfrm>
            <a:off x="2700360" y="4076640"/>
            <a:ext cx="172872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33"/>
          <p:cNvSpPr/>
          <p:nvPr/>
        </p:nvSpPr>
        <p:spPr>
          <a:xfrm>
            <a:off x="5076720" y="4076640"/>
            <a:ext cx="158616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34"/>
          <p:cNvSpPr/>
          <p:nvPr/>
        </p:nvSpPr>
        <p:spPr>
          <a:xfrm>
            <a:off x="7308720" y="4076640"/>
            <a:ext cx="165744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icat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41"/>
          <p:cNvSpPr/>
          <p:nvPr/>
        </p:nvSpPr>
        <p:spPr>
          <a:xfrm>
            <a:off x="2050920" y="4508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42"/>
          <p:cNvSpPr/>
          <p:nvPr/>
        </p:nvSpPr>
        <p:spPr>
          <a:xfrm>
            <a:off x="4500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6732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44"/>
          <p:cNvSpPr/>
          <p:nvPr/>
        </p:nvSpPr>
        <p:spPr>
          <a:xfrm>
            <a:off x="20509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45"/>
          <p:cNvSpPr/>
          <p:nvPr/>
        </p:nvSpPr>
        <p:spPr>
          <a:xfrm>
            <a:off x="67327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46"/>
          <p:cNvSpPr/>
          <p:nvPr/>
        </p:nvSpPr>
        <p:spPr>
          <a:xfrm>
            <a:off x="4500720" y="5084640"/>
            <a:ext cx="502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47"/>
          <p:cNvSpPr/>
          <p:nvPr/>
        </p:nvSpPr>
        <p:spPr>
          <a:xfrm>
            <a:off x="2050920" y="57340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48"/>
          <p:cNvSpPr/>
          <p:nvPr/>
        </p:nvSpPr>
        <p:spPr>
          <a:xfrm>
            <a:off x="4427640" y="573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49"/>
          <p:cNvSpPr/>
          <p:nvPr/>
        </p:nvSpPr>
        <p:spPr>
          <a:xfrm>
            <a:off x="6443640" y="5661000"/>
            <a:ext cx="10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50"/>
          <p:cNvSpPr/>
          <p:nvPr/>
        </p:nvSpPr>
        <p:spPr>
          <a:xfrm>
            <a:off x="1547640" y="2852640"/>
            <a:ext cx="151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m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1"/>
          <p:cNvSpPr/>
          <p:nvPr/>
        </p:nvSpPr>
        <p:spPr>
          <a:xfrm>
            <a:off x="3924360" y="2852640"/>
            <a:ext cx="180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52"/>
          <p:cNvSpPr/>
          <p:nvPr/>
        </p:nvSpPr>
        <p:spPr>
          <a:xfrm>
            <a:off x="6156360" y="2852640"/>
            <a:ext cx="172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ti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53"/>
          <p:cNvSpPr/>
          <p:nvPr/>
        </p:nvSpPr>
        <p:spPr>
          <a:xfrm>
            <a:off x="4716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54"/>
          <p:cNvSpPr/>
          <p:nvPr/>
        </p:nvSpPr>
        <p:spPr>
          <a:xfrm>
            <a:off x="694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55"/>
          <p:cNvSpPr/>
          <p:nvPr/>
        </p:nvSpPr>
        <p:spPr>
          <a:xfrm>
            <a:off x="226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VENTION OF WORK RELATED MUSCULOSKELETAL DISORDER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این بیماریها معمولا صدمات حادی نبوده و در طی هفته 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ماهها و سالها مواجهه با وظایفی که نیاز به حرکات سریع و تکراری همراه با نیروی زیاد دارند ایجاد می شو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در گذشته برای این گروه از بیماریها از اصطلاحات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SI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M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استفاده میش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PREVENTION OF OCCUPATIONAL DISEA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Y:Morteza davoodi  M.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68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68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ccupational Physical Stressors (Job Risk Factor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wkward pos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ct 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b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pet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repeated movements every few sec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ng, packa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4" descr="9"/>
          <p:cNvPicPr/>
          <p:nvPr/>
        </p:nvPicPr>
        <p:blipFill>
          <a:blip r:embed="rId3"/>
          <a:stretch/>
        </p:blipFill>
        <p:spPr>
          <a:xfrm>
            <a:off x="2484360" y="36450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tretch/>
        </p:blipFill>
        <p:spPr>
          <a:xfrm>
            <a:off x="5724360" y="4437000"/>
            <a:ext cx="1008360" cy="9352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load carrying, hand tool work, dentistry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6"/>
          <a:stretch/>
        </p:blipFill>
        <p:spPr>
          <a:xfrm>
            <a:off x="2771640" y="3933720"/>
            <a:ext cx="1092240" cy="11304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brewery2_6"/>
          <p:cNvPicPr/>
          <p:nvPr/>
        </p:nvPicPr>
        <p:blipFill>
          <a:blip r:embed="rId7"/>
          <a:stretch/>
        </p:blipFill>
        <p:spPr>
          <a:xfrm>
            <a:off x="3995640" y="1628640"/>
            <a:ext cx="3276720" cy="19051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er abduction, flexion, ele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electrician, plumber, painter, car assembly line, telephone operator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1360440" cy="1368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abinet8_7"/>
          <p:cNvPicPr/>
          <p:nvPr/>
        </p:nvPicPr>
        <p:blipFill>
          <a:blip r:embed="rId3"/>
          <a:stretch/>
        </p:blipFill>
        <p:spPr>
          <a:xfrm>
            <a:off x="1042920" y="2997360"/>
            <a:ext cx="1430280" cy="19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cabinet11_10"/>
          <p:cNvPicPr/>
          <p:nvPr/>
        </p:nvPicPr>
        <p:blipFill>
          <a:blip r:embed="rId4"/>
          <a:stretch/>
        </p:blipFill>
        <p:spPr>
          <a:xfrm>
            <a:off x="5724360" y="2997360"/>
            <a:ext cx="1730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k flexion, extension, lateral b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typists, writers, copy editors, precis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2"/>
          <a:stretch/>
        </p:blipFill>
        <p:spPr>
          <a:xfrm>
            <a:off x="1908000" y="3429000"/>
            <a:ext cx="1368720" cy="1079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notebook%20only"/>
          <p:cNvPicPr/>
          <p:nvPr/>
        </p:nvPicPr>
        <p:blipFill>
          <a:blip r:embed="rId3"/>
          <a:stretch/>
        </p:blipFill>
        <p:spPr>
          <a:xfrm>
            <a:off x="4356000" y="2637000"/>
            <a:ext cx="26672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nk bending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farmers, constr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rs, manufacturing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4" descr="cabinet10_9"/>
          <p:cNvPicPr/>
          <p:nvPr/>
        </p:nvPicPr>
        <p:blipFill>
          <a:blip r:embed="rId2"/>
          <a:stretch/>
        </p:blipFill>
        <p:spPr>
          <a:xfrm>
            <a:off x="5292720" y="2133720"/>
            <a:ext cx="2036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uat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e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4284720" y="2060640"/>
            <a:ext cx="1657440" cy="2881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"/>
          <p:cNvPicPr/>
          <p:nvPr/>
        </p:nvPicPr>
        <p:blipFill>
          <a:blip r:embed="rId4"/>
          <a:stretch/>
        </p:blipFill>
        <p:spPr>
          <a:xfrm>
            <a:off x="1619280" y="4508640"/>
            <a:ext cx="180036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st extension, flexion, ulnar de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sts, repairmen, VDT users, tailors, packaging industry, butchers, textil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1458720" cy="961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"/>
          <p:cNvPicPr/>
          <p:nvPr/>
        </p:nvPicPr>
        <p:blipFill>
          <a:blip r:embed="rId3"/>
          <a:stretch/>
        </p:blipFill>
        <p:spPr>
          <a:xfrm>
            <a:off x="1258920" y="2421000"/>
            <a:ext cx="1434960" cy="1015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"/>
          <p:cNvPicPr/>
          <p:nvPr/>
        </p:nvPicPr>
        <p:blipFill>
          <a:blip r:embed="rId4"/>
          <a:stretch/>
        </p:blipFill>
        <p:spPr>
          <a:xfrm>
            <a:off x="3708360" y="2492280"/>
            <a:ext cx="15112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84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4"/>
          <p:cNvGraphicFramePr/>
          <p:nvPr/>
        </p:nvGraphicFramePr>
        <p:xfrm>
          <a:off x="4427640" y="1628640"/>
          <a:ext cx="4066920" cy="50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1628640"/>
                    <a:ext cx="4066920" cy="501336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longed sitting and static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clerical work, textile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4" descr="Figure 6: Stresses because of bifocal lenses"/>
          <p:cNvPicPr/>
          <p:nvPr/>
        </p:nvPicPr>
        <p:blipFill>
          <a:blip r:embed="rId2"/>
          <a:stretch/>
        </p:blipFill>
        <p:spPr>
          <a:xfrm>
            <a:off x="2916360" y="393372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SmartArt Placeholder 1025"/>
          <p:cNvGrpSpPr/>
          <p:nvPr/>
        </p:nvGrpSpPr>
        <p:grpSpPr>
          <a:xfrm>
            <a:off x="0" y="990720"/>
            <a:ext cx="9143640" cy="4462920"/>
            <a:chOff x="0" y="990720"/>
            <a:chExt cx="9143640" cy="4462920"/>
          </a:xfrm>
        </p:grpSpPr>
        <p:cxnSp>
          <p:nvCxnSpPr>
            <p:cNvPr id="338" name="_s1028"/>
            <p:cNvCxnSpPr>
              <a:stCxn id="339" idx="0"/>
              <a:endCxn id="340" idx="2"/>
            </p:cNvCxnSpPr>
            <p:nvPr/>
          </p:nvCxnSpPr>
          <p:spPr>
            <a:xfrm flipH="1" flipV="1" rot="5400000">
              <a:off x="2658600" y="3296520"/>
              <a:ext cx="558360" cy="152460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1" name="_s1029"/>
            <p:cNvCxnSpPr>
              <a:stCxn id="342" idx="0"/>
              <a:endCxn id="340" idx="2"/>
            </p:cNvCxnSpPr>
            <p:nvPr/>
          </p:nvCxnSpPr>
          <p:spPr>
            <a:xfrm flipV="1">
              <a:off x="3699720" y="3779640"/>
              <a:ext cx="1800" cy="55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3" name="_s1030"/>
            <p:cNvCxnSpPr>
              <a:stCxn id="344" idx="0"/>
              <a:endCxn id="340" idx="2"/>
            </p:cNvCxnSpPr>
            <p:nvPr/>
          </p:nvCxnSpPr>
          <p:spPr>
            <a:xfrm flipV="1" rot="16200000">
              <a:off x="4183200" y="3295800"/>
              <a:ext cx="558360" cy="152604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5" name="_s1031"/>
            <p:cNvCxnSpPr>
              <a:stCxn id="346" idx="0"/>
              <a:endCxn id="340" idx="2"/>
            </p:cNvCxnSpPr>
            <p:nvPr/>
          </p:nvCxnSpPr>
          <p:spPr>
            <a:xfrm flipV="1" rot="16200000">
              <a:off x="4945320" y="2533680"/>
              <a:ext cx="558360" cy="305028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7" name="_s1032"/>
            <p:cNvCxnSpPr>
              <a:stCxn id="348" idx="0"/>
              <a:endCxn id="340" idx="2"/>
            </p:cNvCxnSpPr>
            <p:nvPr/>
          </p:nvCxnSpPr>
          <p:spPr>
            <a:xfrm flipH="1" flipV="1" rot="5400000">
              <a:off x="1898280" y="2535840"/>
              <a:ext cx="558360" cy="304596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9" name="_s1033"/>
            <p:cNvCxnSpPr>
              <a:stCxn id="350" idx="1"/>
              <a:endCxn id="351" idx="2"/>
            </p:cNvCxnSpPr>
            <p:nvPr/>
          </p:nvCxnSpPr>
          <p:spPr>
            <a:xfrm rot="10800000">
              <a:off x="7619040" y="2105640"/>
              <a:ext cx="21816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52" name="_s1034"/>
            <p:cNvCxnSpPr>
              <a:stCxn id="340" idx="3"/>
              <a:endCxn id="351" idx="2"/>
            </p:cNvCxnSpPr>
            <p:nvPr/>
          </p:nvCxnSpPr>
          <p:spPr>
            <a:xfrm flipV="1">
              <a:off x="4353480" y="2105640"/>
              <a:ext cx="326664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51" name="_s1035"/>
            <p:cNvSpPr/>
            <p:nvPr/>
          </p:nvSpPr>
          <p:spPr>
            <a:xfrm>
              <a:off x="6966360" y="99072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PUBLIC 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_s1036"/>
            <p:cNvSpPr/>
            <p:nvPr/>
          </p:nvSpPr>
          <p:spPr>
            <a:xfrm>
              <a:off x="304704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_s1037"/>
            <p:cNvSpPr/>
            <p:nvPr/>
          </p:nvSpPr>
          <p:spPr>
            <a:xfrm>
              <a:off x="783720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_s1038"/>
            <p:cNvSpPr/>
            <p:nvPr/>
          </p:nvSpPr>
          <p:spPr>
            <a:xfrm>
              <a:off x="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EDICI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_s1039"/>
            <p:cNvSpPr/>
            <p:nvPr/>
          </p:nvSpPr>
          <p:spPr>
            <a:xfrm>
              <a:off x="609552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NURS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_s1040"/>
            <p:cNvSpPr/>
            <p:nvPr/>
          </p:nvSpPr>
          <p:spPr>
            <a:xfrm>
              <a:off x="457128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ERGONOM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_s1041"/>
            <p:cNvSpPr/>
            <p:nvPr/>
          </p:nvSpPr>
          <p:spPr>
            <a:xfrm>
              <a:off x="304704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SAFET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_s1042"/>
            <p:cNvSpPr/>
            <p:nvPr/>
          </p:nvSpPr>
          <p:spPr>
            <a:xfrm>
              <a:off x="1523880" y="4338000"/>
              <a:ext cx="130500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YGIE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act st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 and hard su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hand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knee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4"/>
          <a:stretch/>
        </p:blipFill>
        <p:spPr>
          <a:xfrm>
            <a:off x="1979640" y="4292640"/>
            <a:ext cx="2016000" cy="1803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Figure 3: Contact stress from the table edge"/>
          <p:cNvPicPr/>
          <p:nvPr/>
        </p:nvPicPr>
        <p:blipFill>
          <a:blip r:embed="rId5"/>
          <a:stretch/>
        </p:blipFill>
        <p:spPr>
          <a:xfrm>
            <a:off x="6756480" y="1844640"/>
            <a:ext cx="2387520" cy="13208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6"/>
          <a:stretch/>
        </p:blipFill>
        <p:spPr>
          <a:xfrm>
            <a:off x="5003640" y="4292640"/>
            <a:ext cx="201636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5" dur="2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20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Arial"/>
              </a:rPr>
              <a:t>فاکتورهای سایکوسوشیال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تقاضای بالای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رضا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همکاران یا سوپروایز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امن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گرانی در مورد آینده ک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تایج مالی بیم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اعضاء خانواده و افسردگ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5064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Arial"/>
                <a:cs typeface="Traffic"/>
              </a:rPr>
              <a:t>آموزش كار با كامپيوت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وضعيت كارب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ازو و ساق پا دروضعيت عمودي باش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ساعد وران در وضعيت افق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اها روي زمين (يا زير پايي)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‌انحناي به سمت‌داخل پشت‌را محافظت كن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وزن تنه روي‌سطوح باسن وران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ه طور مساوي تقسيم شده باش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cs typeface="Traffic"/>
              </a:rPr>
              <a:t>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</a:t>
            </a:r>
            <a:r>
              <a:rPr b="0" lang="fa-IR" sz="10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6" action="ppaction://hlinksldjump"/>
              </a:rPr>
              <a:t>برگشت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2505240" y="5864400"/>
            <a:ext cx="105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6" descr=""/>
          <p:cNvPicPr/>
          <p:nvPr/>
        </p:nvPicPr>
        <p:blipFill>
          <a:blip r:embed="rId7"/>
          <a:stretch/>
        </p:blipFill>
        <p:spPr>
          <a:xfrm>
            <a:off x="4772160" y="1676520"/>
            <a:ext cx="379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تنظيم صندل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ارتفاع صندلي رابه صورتي تنظيم كنيد كه ارتفاع آرنج در حالتي كه دستها از طرفين آويزان است با ارتفاع ميز يكسان شو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فضاي آزاد بين لبه جلوي صندلي و پشت زانوبه اندازه يك مشت گره كرده باش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 طوري تنظيم شودكه گودي كمر را دربر  گي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در صورتي كه پاها بالاتر از زمين قرار گرفت از زير پايي استفاده نماييد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   </a:t>
            </a:r>
            <a:r>
              <a:rPr b="0" lang="fa-IR" sz="12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5" action="ppaction://hlinksldjump"/>
              </a:rPr>
              <a:t>برگش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5" descr="healthily01"/>
          <p:cNvPicPr/>
          <p:nvPr/>
        </p:nvPicPr>
        <p:blipFill>
          <a:blip r:embed="rId6"/>
          <a:stretch/>
        </p:blipFill>
        <p:spPr>
          <a:xfrm>
            <a:off x="4648320" y="1676520"/>
            <a:ext cx="4190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صفحه كليد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زاويه آرنج بايد بي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10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8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داراي شيب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2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تكيه گاه مچ دست داشت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14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4" action="ppaction://hlinksldjump"/>
              </a:rPr>
              <a:t>برگش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5"/>
          <a:stretch/>
        </p:blipFill>
        <p:spPr>
          <a:xfrm>
            <a:off x="5562720" y="4191120"/>
            <a:ext cx="2371680" cy="2028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"/>
          <p:cNvPicPr/>
          <p:nvPr/>
        </p:nvPicPr>
        <p:blipFill>
          <a:blip r:embed="rId6"/>
          <a:stretch/>
        </p:blipFill>
        <p:spPr>
          <a:xfrm>
            <a:off x="5521320" y="1676520"/>
            <a:ext cx="2460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Ergo32a"/>
          <p:cNvPicPr/>
          <p:nvPr/>
        </p:nvPicPr>
        <p:blipFill>
          <a:blip r:embed="rId1"/>
          <a:stretch/>
        </p:blipFill>
        <p:spPr>
          <a:xfrm>
            <a:off x="4572000" y="4292640"/>
            <a:ext cx="4248000" cy="2232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1" name="Picture 3" descr="Ergo30a"/>
          <p:cNvPicPr/>
          <p:nvPr/>
        </p:nvPicPr>
        <p:blipFill>
          <a:blip r:embed="rId2"/>
          <a:stretch/>
        </p:blipFill>
        <p:spPr>
          <a:xfrm>
            <a:off x="324000" y="1700280"/>
            <a:ext cx="4392360" cy="2390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Ergo32b"/>
          <p:cNvPicPr/>
          <p:nvPr/>
        </p:nvPicPr>
        <p:blipFill>
          <a:blip r:embed="rId1"/>
          <a:stretch/>
        </p:blipFill>
        <p:spPr>
          <a:xfrm>
            <a:off x="900000" y="2349360"/>
            <a:ext cx="3527640" cy="2808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3" name="Picture 3" descr="Ergo30b"/>
          <p:cNvPicPr/>
          <p:nvPr/>
        </p:nvPicPr>
        <p:blipFill>
          <a:blip r:embed="rId2"/>
          <a:stretch/>
        </p:blipFill>
        <p:spPr>
          <a:xfrm>
            <a:off x="4932360" y="2276640"/>
            <a:ext cx="3745080" cy="2879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886200" cy="27432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4876920" y="2286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ON OF NIH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LO-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definition 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ccupational Healt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motion &amp; maintenance of the highest degree of  Physical , Mental &amp; Social well-being of workers in all occupations.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4" descr="the_ear_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o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cted ceru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ign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longed noise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otrau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agents &amp;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CCUPATIONAL 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t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H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induced (industrial ototoxica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 OTOTOXICA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VY METALS:     Pb, mercury, arsenic, cobalt, lithium, thori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S:     cyanide, benzene, aniline, CS2, CO, CCL4, styrene, tolue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no glycosides, loop diuretics, anti neoplastics, salicylat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وسایل حفاظت فرد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l c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برخی از کارگران از گلوله های پنبه ای بجای پلاک گوش استفاده می کند که متاسفانه به هیچ وجه کارآیی ندار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5" descr="earplugs"/>
          <p:cNvPicPr/>
          <p:nvPr/>
        </p:nvPicPr>
        <p:blipFill>
          <a:blip r:embed="rId2"/>
          <a:stretch/>
        </p:blipFill>
        <p:spPr>
          <a:xfrm>
            <a:off x="0" y="350532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02_Custom-Plugs_t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3581280"/>
            <a:ext cx="4038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5" descr="1340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981080"/>
            <a:ext cx="3962520" cy="3276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3M-1450"/>
          <p:cNvPicPr/>
          <p:nvPr/>
        </p:nvPicPr>
        <p:blipFill>
          <a:blip r:embed="rId3"/>
          <a:stretch/>
        </p:blipFill>
        <p:spPr>
          <a:xfrm>
            <a:off x="5105520" y="190512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بهترین وسیله حفاظت شنوایی کدام است؟</a:t>
            </a: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6" descr="02_Custom-Plugs_tn"/>
          <p:cNvPicPr/>
          <p:nvPr/>
        </p:nvPicPr>
        <p:blipFill>
          <a:blip r:embed="rId1"/>
          <a:stretch/>
        </p:blipFill>
        <p:spPr>
          <a:xfrm>
            <a:off x="533520" y="1981080"/>
            <a:ext cx="3429000" cy="39625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134049"/>
          <p:cNvPicPr/>
          <p:nvPr/>
        </p:nvPicPr>
        <p:blipFill>
          <a:blip r:embed="rId2"/>
          <a:stretch/>
        </p:blipFill>
        <p:spPr>
          <a:xfrm>
            <a:off x="5029200" y="1981080"/>
            <a:ext cx="358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81808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4" descr="BK01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5"/>
          <p:cNvSpPr/>
          <p:nvPr/>
        </p:nvSpPr>
        <p:spPr>
          <a:xfrm>
            <a:off x="4449600" y="5105520"/>
            <a:ext cx="469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180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4648320" y="50292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81808"/>
                </a:solidFill>
                <a:latin typeface="Verdana"/>
              </a:rPr>
              <a:t>Thanks a l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351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ccupational Hygiene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branch of Occupation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of Anticipating , Recognizing , Evaluating &amp; Control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hazards in the working environm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UNCTIONS &amp; ACTIVITIES</a:t>
            </a:r>
            <a:br>
              <a:rPr sz="32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f</a:t>
            </a:r>
            <a:br>
              <a:rPr sz="2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CCUPATIONAL MEDIC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ealth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aminatio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of workers &amp; applicam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paration &amp; arrangement of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rotective &amp; contro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grams for workers exposed to health haz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employment (preplacement) Health Exa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Ionizing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Asb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Merc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No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ll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after a long abs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ght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 Fighte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 vehicle operato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 ( Termination )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 Retirement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معاینات بدو استخدا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قبل از شروع به کار انجام شود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احراز دقیق هویت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تعیین دقیق وضعیت خدمت سرباز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شناسایی دقیق شغل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شغل فعلی فرد مشخص است؟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در سازمان جابجایی شغلی وجود دار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احتمال تغییر شغل فرد در آینده چقدر است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در صورت ارتقا شغلی فرد چه نیازمندی های شغلی در آینده باید دارا باش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4:46:36Z</dcterms:created>
  <dc:creator>health</dc:creator>
  <dc:description/>
  <dc:language>en-US</dc:language>
  <cp:lastModifiedBy>it</cp:lastModifiedBy>
  <dcterms:modified xsi:type="dcterms:W3CDTF">2019-12-25T04:04:55Z</dcterms:modified>
  <cp:revision>121</cp:revision>
  <dc:subject/>
  <dc:title>MUSCULOSKELETAL DISORDERS</dc:title>
</cp:coreProperties>
</file>